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7AB2-55AE-417A-80F6-966EC300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7CC-EF19-4A28-B067-9DACE351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5881-523B-4CDC-B7CC-46D91114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76E2-1E48-4B38-BD71-D02DC589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4F33-AE2E-423B-8EC0-811F9864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B1AF-A4F5-4161-AFED-8A1E7660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02CD-E2DD-4A0F-BD4D-70EBE52D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FE53-3B6F-4119-8D64-FED70D49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874-0811-4F28-9B5A-3B5BBAF0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B25-D217-4E82-83ED-9E0D3688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80E-371F-486C-AC82-5517BABE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8111-82D8-4AFC-91F9-F327ADBF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6D58-E89B-4FB7-B388-1B2C0870F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em720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55344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n720" descr=""/>
          <p:cNvPicPr/>
          <p:nvPr/>
        </p:nvPicPr>
        <p:blipFill>
          <a:blip r:embed="rId1"/>
          <a:stretch/>
        </p:blipFill>
        <p:spPr>
          <a:xfrm>
            <a:off x="2057400" y="0"/>
            <a:ext cx="2641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00:27:21Z</dcterms:created>
  <dc:creator>geoff lyon</dc:creator>
  <dc:description/>
  <dc:language>en-US</dc:language>
  <cp:lastModifiedBy>geoff lyon</cp:lastModifiedBy>
  <dcterms:modified xsi:type="dcterms:W3CDTF">2001-10-13T00:27:54Z</dcterms:modified>
  <cp:revision>1</cp:revision>
  <dc:subject/>
  <dc:title>PowerPoint Presentation</dc:title>
</cp:coreProperties>
</file>